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Kid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656B-7A67-4C84-81F5-3197D73615F6}" type="slidenum">
              <a:rPr b="0" lang="en-GB" sz="1200" spc="-1" strike="noStrike">
                <a:solidFill>
                  <a:srgbClr val="000000"/>
                </a:solidFill>
                <a:latin typeface="Kid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411-2EBD-43FE-9E2F-456DDDC6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C54-BE90-4AA3-AE38-E3F96883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008-5124-4D65-A70D-3523ACF3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986-9126-4520-9835-06FEC0ED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113D-42C7-41CD-A935-D05F82A1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999A-7C62-4113-B491-E7E3AAC1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DB62-0519-4AFF-A2D2-B0E034E2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17B-4827-4E70-9453-5371811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4FD-E838-4658-99FF-8A22E4F7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5EBA-C560-4115-AE06-B11F6BC5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E6BE-6B96-458E-8803-D150D19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223-B6E8-4F0B-9D54-D19AEB8C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9D55-4224-437D-9BE8-F64B85E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50E-0C87-4B7E-A232-06B68E5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6F4A-4083-496D-9876-D75922F8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9278-BFED-453F-A166-8E733F22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B432-2B3F-4CF1-80C5-B5822B74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203-B982-4CFC-88FB-9E476E87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1C5-A0AB-404E-8D61-4ED07BBD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531-5410-40D7-AF90-78541606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49B-D8CF-43B7-A60F-58E31C8D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CBF-43FA-47C3-88B5-8009F03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668-D853-490A-B855-CDA57A5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AFF-D68D-4C98-AAE3-B80C8268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2248-1419-4958-B859-2BEE833F4F50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9559-4FA1-448F-BACD-29B432EFA6F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24843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endParaRPr b="0" i="1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600200" y="2057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torybook"/>
              </a:rPr>
              <a:t>William Shakespea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Act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ng was not considered a respectable profession by the English Purit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women’s parts were  played by bo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men did not enter the theater until much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et would have been played by a b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e know about Shakespeare comes from church documents and legal rec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ocuments that we have are baptismal registration, marriage license, and records of real estate trans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Famil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the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eight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April 23, 156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in Stratf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dad was a shoemaker and sometimes served as a justice of the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died April 23, 161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’s Lif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was an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594, he was a charter member of the theatrical company called Lord Chamberlains Men, which later become The Kings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gs Men were supported by King J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o and Juliet was among the early plays of Shakespe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lay was written between 1594 and 159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1612 Shakespeare had written thirty-seven (37) pl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Pl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g 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dsummers Night’s D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nry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ath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speare died April 23, 1616 (52 years later on his birth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is buried under the old stone floor of Holy Trinity Church in Strat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is carved on his tombst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riend, for Jesus sake forb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g the dust enclos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ssed be the man that spares these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ursed be he that moves my b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s Theat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Burbage built the first permanent theater in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ng companies played where they could find a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is would be in the courtyards of in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built the GLOBE Th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ater continue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play Henry V Shakespeare calls his theater the Wooden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lings – people who stood around the stage for the price of a pe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4:55:36Z</dcterms:created>
  <dc:creator>Jefferson County Schools Jeff</dc:creator>
  <dc:description/>
  <dc:language>en-US</dc:language>
  <cp:lastModifiedBy>RomaK</cp:lastModifiedBy>
  <dcterms:modified xsi:type="dcterms:W3CDTF">2015-09-04T10:39:08Z</dcterms:modified>
  <cp:revision>25</cp:revision>
  <dc:subject/>
  <dc:title>shakespeares life</dc:title>
</cp:coreProperties>
</file>